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797-4671-4AD2-8B6A-CE45D79B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E6C-3138-49D5-84EC-E1CD9075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4B1-10A6-41A7-9296-0D150DC7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841-F3E6-4837-81E9-55CD1915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689-1C5C-4F7F-9CBC-1450C737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204-8F15-4D99-A030-6905CEA8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121-5E4F-4676-BF5F-216746A6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BB7-F3B7-47F1-8AEB-CB0C7E3C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327-2B8D-4991-9878-9333D7D3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ED1-8CA5-4C31-BB51-3F6393B8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E274-2653-47DA-B4C3-DA8CE67A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5282-9388-4DCC-B84E-69328E8B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BEAA-462C-4D87-8862-A2771427C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2560" y="17604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3960" y="2286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3800" y="8398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B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5360" y="200484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9720" y="221148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 Firm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0" y="152568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nel Mode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5360" y="131904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1240" y="101448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13190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nel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6480" y="185256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1960" y="17002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1960" y="208116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B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560" y="7858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2560" y="14716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2560" y="21574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1640" y="739800"/>
            <a:ext cx="1308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Message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66600" y="739800"/>
            <a:ext cx="149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Message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03760" y="1425600"/>
            <a:ext cx="1222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g.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0520" y="211140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c A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0480" y="211140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law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12920" y="142560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MF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3716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20574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13716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0574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93640" y="739800"/>
            <a:ext cx="1166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ignal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765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8000" y="289548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 from phon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247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65760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638680" y="1066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657600" y="106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8762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760" y="91440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30120" y="5335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23:18:40Z</dcterms:created>
  <dc:creator>John Kostogiannis</dc:creator>
  <dc:description/>
  <dc:language>en-US</dc:language>
  <cp:lastModifiedBy>John Kostogiannis</cp:lastModifiedBy>
  <dcterms:modified xsi:type="dcterms:W3CDTF">1999-09-12T11:03:12Z</dcterms:modified>
  <cp:revision>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