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C71B6-BC90-47CE-82B7-91F74CE0D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76BE7-3CAA-4963-BB60-46683846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193FD-88C4-4821-BDDF-ACDE64EB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C685D-47D3-4BD4-BD6F-59A9ABF5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885C7-FCEB-4D53-8676-9563DFE0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D4BFA-A3C2-4A86-8C41-15A4A353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0192B-4E92-44F1-8320-BFBB43E1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D4D99-17DA-4E84-BC68-29745BD9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DFAE8-9839-47F6-A532-417AF0BE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D14E7-DC63-4295-802F-C56C049D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932A3-AED5-44B5-89EA-19CADE0A3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2CBA2-9366-405B-8787-F9B40DBFE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6248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800" spc="-1" strike="noStrike">
                <a:solidFill>
                  <a:srgbClr val="0066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ff"/>
                </a:solidFill>
                <a:latin typeface="Times New Roman"/>
              </a:rPr>
              <a:t>UNIVE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6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3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4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AC66-6531-4B98-B80F-AD352BFA7FC6}" type="slidenum">
              <a:rPr b="0" lang="es-E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Importancia de Linux para una Empresa de Software</a:t>
            </a: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UNIVERS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Barreras para su extensión comercial</a:t>
            </a: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Miedo al cambio: F(fear) D(dubt) U(uncertainty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usencia de “galanteo” comercia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Desconocimiento de la forma de obtener soporte y de su calidad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Formas de soslayar las barreras </a:t>
            </a: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Usando técnicas de antropología cultura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or imitación, empezando en los ambientes más abierto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Maximizando los puntos fuertes de Linux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stabilidad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Integración IP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jo requerimiento de maquinaria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jo coste de mantenimient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Ejemplos de usos prácticos</a:t>
            </a: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Máquinas dedicada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Routers, Firewall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ervidores Web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File Server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ervidor de Base de Dato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Estaciones de trabajo sin disco duro, poca RAM y baja potenci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rogramación HTML, Java o X Window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Kioscos de Información al públic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erminales Punto de Venta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Uso comercial de Linux</a:t>
            </a: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Valoración filosófic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Valoración económic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Utilidad para una empresa de softwar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Barreras para su extensión comercia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Formas de soslayar estas barrera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Ejemplos de usos comerciales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Valoración filosófica de Linux (1)</a:t>
            </a: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¿En qué consiste el atractivo de Linux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¿Cuál es su utilidad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Valoración filosófica de Linux (2)</a:t>
            </a: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¿Puede pensarse en un futuro sin ordenadores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¿Puede pensarse en un futuro sin ordenadores interconectatos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Valoración filosófica de Linux (3)</a:t>
            </a: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¿Puede pensarse que el Sistema Operativo de los Ordenadores sea propiedad de alguien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Valoración filosófica de Linux (4)</a:t>
            </a: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¿De quién es el fuego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¿De quién es la escritura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¿De quién es el Sistema Operativo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8383680" cy="78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Valoración económica de Linux (1)</a:t>
            </a: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El espacio económico es literalmente globa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El modo de intercambio es el trueque en un modelo de “n” a “n”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El coste del transporte tiende a cer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El tiempo de transporte tiende a cer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El coste de almacenamiento tiende a cer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El coste de fabricación tiende a cer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8916840" cy="78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Valoración económica de Linux (2)</a:t>
            </a: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¿Quién paga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l hombr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Utilidad de Linux para una empresa de Software</a:t>
            </a: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Es una forma de entender el softwar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impl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Factibl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biert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n equip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5T13:37:39Z</dcterms:created>
  <dc:creator>Assumpta</dc:creator>
  <dc:description/>
  <dc:language>en-US</dc:language>
  <cp:lastModifiedBy>Universe, S.A.</cp:lastModifiedBy>
  <cp:lastPrinted>1998-11-05T15:04:52Z</cp:lastPrinted>
  <dcterms:modified xsi:type="dcterms:W3CDTF">1998-11-19T15:20:59Z</dcterms:modified>
  <cp:revision>4</cp:revision>
  <dc:subject/>
  <dc:title>Uso comercial de Linux</dc:title>
</cp:coreProperties>
</file>