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1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6B7-F513-49D6-8818-F3A5EE3F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444-705B-4C6B-8E2A-B6B833A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4CB-634A-40C8-8724-C2F1DDB7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BCF-2F00-49EA-A74D-13F04E92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862-9BCB-402F-A9C3-999C6B8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889A-8E0C-4ED8-9695-8B087A9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B16B-56C2-4FFD-A7C8-773A69C5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F7FB-5A17-4DFC-A9F1-D8E00ED9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4AE1-CD31-47B5-A43F-94746091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5D6A-F0B6-4598-B7AC-8723823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83D-A148-49F1-9E5D-3A1ACBF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0A0-94D4-45A1-8E63-BAA2F78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3A0D-D2D2-4891-8754-14BD060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9580-0566-4DF5-BB3D-832721B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6C7F-ABAB-4E30-9F64-BE989D67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109A-DE0F-4056-A2A6-C908377B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284-E4E1-4848-8D32-8165979A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B83-A22B-40BD-AE26-A484D841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E8F-B66A-4BEF-83C5-FC24C7C1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220-76B5-454B-9C7B-5B5519F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EE2-1D98-4BF0-A80F-A86ECEC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CF5-419D-4F3C-A8A5-D339F65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CE0-C01A-4B0D-BEC5-041E567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772-4CA7-47DE-B255-48C77E2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FA74-B373-4889-AEAA-E8C17DC82DD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492-3294-41DA-A43D-894E84B0E93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phaworks.ibm.com/aw.nsf/techmain/6E5433AD1F48242788256927007CA928?OpenDocument" TargetMode="External"/><Relationship Id="rId3" Type="http://schemas.openxmlformats.org/officeDocument/2006/relationships/hyperlink" Target="http://alphaworks.ibm.com/aw.nsf/techmain/6E5433AD1F48242788256927007CA928?OpenDocument" TargetMode="External"/><Relationship Id="rId4" Type="http://schemas.openxmlformats.org/officeDocument/2006/relationships/hyperlink" Target="http://alphaworks.ibm.com/aw.nsf/techmain/6E5433AD1F48242788256927007CA928?OpenDocument" TargetMode="External"/><Relationship Id="rId5" Type="http://schemas.openxmlformats.org/officeDocument/2006/relationships/hyperlink" Target="http://alphaworks.ibm.com/aw.nsf/techmain/6E5433AD1F48242788256927007CA928?OpenDocument" TargetMode="External"/><Relationship Id="rId6" Type="http://schemas.openxmlformats.org/officeDocument/2006/relationships/hyperlink" Target="http://alphaworks.ibm.com/aw.nsf/techmain/6E5433AD1F48242788256927007CA928?OpenDocument" TargetMode="External"/><Relationship Id="rId7" Type="http://schemas.openxmlformats.org/officeDocument/2006/relationships/hyperlink" Target="http://alphaworks.ibm.com/aw.nsf/techmain/6E5433AD1F48242788256927007CA928?OpenDocument" TargetMode="External"/><Relationship Id="rId8" Type="http://schemas.openxmlformats.org/officeDocument/2006/relationships/hyperlink" Target="http://alphaworks.ibm.com/aw.nsf/techmain/6E5433AD1F48242788256927007CA928?OpenDocument" TargetMode="External"/><Relationship Id="rId9" Type="http://schemas.openxmlformats.org/officeDocument/2006/relationships/hyperlink" Target="http://alphaworks.ibm.com/aw.nsf/techmain/6E5433AD1F48242788256927007CA928?OpenDocument" TargetMode="External"/><Relationship Id="rId10" Type="http://schemas.openxmlformats.org/officeDocument/2006/relationships/hyperlink" Target="http://alphaworks.ibm.com/aw.nsf/techmain/6E5433AD1F48242788256927007CA928?OpenDocument" TargetMode="External"/><Relationship Id="rId11" Type="http://schemas.openxmlformats.org/officeDocument/2006/relationships/hyperlink" Target="http://alphaworks.ibm.com/aw.nsf/techmain/6E5433AD1F48242788256927007CA928?OpenDocument" TargetMode="External"/><Relationship Id="rId12" Type="http://schemas.openxmlformats.org/officeDocument/2006/relationships/hyperlink" Target="http://alphaworks.ibm.com/aw.nsf/techmain/6E5433AD1F48242788256927007CA928?OpenDocument" TargetMode="External"/><Relationship Id="rId13" Type="http://schemas.openxmlformats.org/officeDocument/2006/relationships/hyperlink" Target="http://alphaworks.ibm.com/aw.nsf/techmain/6E5433AD1F48242788256927007CA928?OpenDocument" TargetMode="External"/><Relationship Id="rId14" Type="http://schemas.openxmlformats.org/officeDocument/2006/relationships/hyperlink" Target="http://alphaworks.ibm.com/aw.nsf/techmain/6E5433AD1F48242788256927007CA928?OpenDocument" TargetMode="External"/><Relationship Id="rId15" Type="http://schemas.openxmlformats.org/officeDocument/2006/relationships/hyperlink" Target="http://alphaworks.ibm.com/aw.nsf/techmain/6E5433AD1F48242788256927007CA928?OpenDocument" TargetMode="External"/><Relationship Id="rId1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eoría de los Sistemas Autoorganizad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tractores, Fractales, Componentes y  WEB Serv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solidFill>
            <a:srgbClr val="5789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6"/>
                </a:solidFill>
                <a:latin typeface="Times New Roman"/>
              </a:rPr>
              <a:t>Ing. Herman E. Dold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strobe" descr=""/>
          <p:cNvPicPr/>
          <p:nvPr/>
        </p:nvPicPr>
        <p:blipFill>
          <a:blip r:embed="rId2"/>
          <a:stretch/>
        </p:blipFill>
        <p:spPr>
          <a:xfrm>
            <a:off x="1176480" y="480060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87" name="flock0" descr=""/>
          <p:cNvPicPr/>
          <p:nvPr/>
        </p:nvPicPr>
        <p:blipFill>
          <a:blip r:embed="rId3"/>
          <a:stretch/>
        </p:blipFill>
        <p:spPr>
          <a:xfrm>
            <a:off x="2895480" y="2100240"/>
            <a:ext cx="3505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4c2b"/>
                </a:solidFill>
                <a:latin typeface="Times New Roman"/>
              </a:rPr>
              <a:t>Fracta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24340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Presentan una aparente 'Invariancia de Escala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pero tienen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omplejidad infin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3" name="_F_princess" descr=""/>
          <p:cNvPicPr/>
          <p:nvPr/>
        </p:nvPicPr>
        <p:blipFill>
          <a:blip r:embed="rId2"/>
          <a:stretch/>
        </p:blipFill>
        <p:spPr>
          <a:xfrm>
            <a:off x="2819520" y="2858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Genética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Todos los organismos vivientes compartimos el mismo juego de instrucciones genéticas básica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specialización celular: </a:t>
            </a:r>
            <a:r>
              <a:rPr b="0" lang="es-ES" sz="2800" spc="-1" strike="noStrike">
                <a:solidFill>
                  <a:srgbClr val="0000cc"/>
                </a:solidFill>
                <a:latin typeface="Times New Roman"/>
              </a:rPr>
              <a:t>Restricciones de Expresión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n Informática vamos de los sistemas particulares a los generales en búsqueda de la reutilización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l sistema universal + restricciones de expresión </a:t>
            </a:r>
            <a:br>
              <a:rPr sz="2800"/>
            </a:b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= El sistema específic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Los 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istemas 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utoorganizados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Procesamiento 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D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istribu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í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do en el 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osmo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Bandadas y cardúme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bejas y hormigas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nales y hormiguer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flock0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3505320" cy="2319120"/>
          </a:xfrm>
          <a:prstGeom prst="rect">
            <a:avLst/>
          </a:prstGeom>
          <a:ln w="0">
            <a:noFill/>
          </a:ln>
        </p:spPr>
      </p:pic>
      <p:pic>
        <p:nvPicPr>
          <p:cNvPr id="119" name="shoal0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360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istemas Informáticos Autoorganizado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Sistemas distribuídos en la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Múltiples agentes autoensamblados y autocoordinad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Lógica de ensamblado distribuí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4c2b"/>
                </a:solidFill>
                <a:latin typeface="Times New Roman"/>
              </a:rPr>
              <a:t>Componentes Distribuíd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Programación Estructura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Data-flow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ventos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. Wiring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4" name="___studio" descr=""/>
          <p:cNvPicPr/>
          <p:nvPr/>
        </p:nvPicPr>
        <p:blipFill>
          <a:blip r:embed="rId2"/>
          <a:stretch/>
        </p:blipFill>
        <p:spPr>
          <a:xfrm>
            <a:off x="2224080" y="2587680"/>
            <a:ext cx="48625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7" name="js000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848720" cy="590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6186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Verdana"/>
              </a:rPr>
              <a:t>SUN - Java Stud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1" name="AUT15" descr=""/>
          <p:cNvPicPr/>
          <p:nvPr/>
        </p:nvPicPr>
        <p:blipFill>
          <a:blip r:embed="rId2"/>
          <a:stretch/>
        </p:blipFill>
        <p:spPr>
          <a:xfrm>
            <a:off x="752400" y="609480"/>
            <a:ext cx="7553520" cy="5534280"/>
          </a:xfrm>
          <a:prstGeom prst="rect">
            <a:avLst/>
          </a:prstGeom>
          <a:ln w="0">
            <a:noFill/>
          </a:ln>
        </p:spPr>
      </p:pic>
      <p:pic>
        <p:nvPicPr>
          <p:cNvPr id="132" name="iexplode" descr=""/>
          <p:cNvPicPr/>
          <p:nvPr/>
        </p:nvPicPr>
        <p:blipFill>
          <a:blip r:embed="rId3"/>
          <a:stretch/>
        </p:blipFill>
        <p:spPr>
          <a:xfrm>
            <a:off x="4105440" y="2971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Necesitamos buenas teor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í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as matem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á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tic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324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Teor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í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 de l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BD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lacion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Teor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í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 de la Relaci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ó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n Univers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Principio de Dualidad (K.OR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53341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GeneXu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Necesitamos buenas teor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í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as matem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á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tic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4572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Teo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í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a de l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B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elaciona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Teo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í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a de la Relaci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ó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n Univers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Principio de Dualidad (K.ORR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eoría de los Sistemas Autoorganiz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eoría de la Restricciones de Expres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5627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???     !!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Necesitamos 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e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á</a:t>
            </a:r>
            <a:r>
              <a:rPr b="0" lang="es-ES" sz="3200" spc="-1" strike="noStrike">
                <a:solidFill>
                  <a:srgbClr val="004c2b"/>
                </a:solidFill>
                <a:latin typeface="Times New Roman"/>
              </a:rPr>
              <a:t>ndares para los Descriptore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Namespa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Semántica de funcional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Semántica de conectiv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7400" y="48006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ecnologí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1143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smolo</a:t>
            </a: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gí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219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ómo 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819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Porqué 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66680" y="609480"/>
            <a:ext cx="609840" cy="5029200"/>
          </a:xfrm>
          <a:custGeom>
            <a:avLst/>
            <a:gdLst>
              <a:gd name="textAreaLeft" fmla="*/ 81720 w 609840"/>
              <a:gd name="textAreaRight" fmla="*/ 528120 w 609840"/>
              <a:gd name="textAreaTop" fmla="*/ 879840 h 5029200"/>
              <a:gd name="textAreaBottom" fmla="*/ 364608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410080" y="1066680"/>
            <a:ext cx="609840" cy="5029200"/>
          </a:xfrm>
          <a:custGeom>
            <a:avLst/>
            <a:gdLst>
              <a:gd name="textAreaLeft" fmla="*/ 81720 w 609840"/>
              <a:gd name="textAreaRight" fmla="*/ 528120 w 609840"/>
              <a:gd name="textAreaTop" fmla="*/ 879840 h 5029200"/>
              <a:gd name="textAreaBottom" fmla="*/ 364608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4c2b"/>
                </a:solidFill>
                <a:latin typeface="Times New Roman"/>
              </a:rPr>
              <a:t>Un primer paso, los WEB Servic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 propuesta de IB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76400"/>
            <a:ext cx="79246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IBM Web Services Toolki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IBM Web Services Toolkit is a runtime environment as well as demo/examples to design and execute web-service applications </a:t>
            </a:r>
            <a:r>
              <a:rPr b="1" lang="es-ES" sz="1800" spc="-1" strike="noStrike">
                <a:solidFill>
                  <a:srgbClr val="d60093"/>
                </a:solidFill>
                <a:latin typeface="Verdana"/>
              </a:rPr>
              <a:t>to find one another</a:t>
            </a: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 and collaborate in business transactions </a:t>
            </a:r>
            <a:r>
              <a:rPr b="1" lang="es-ES" sz="1800" spc="-1" strike="noStrike">
                <a:solidFill>
                  <a:srgbClr val="d60093"/>
                </a:solidFill>
                <a:latin typeface="Verdana"/>
              </a:rPr>
              <a:t>without programming requirements or human intervention</a:t>
            </a: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                                  …………………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The toolkit component that was called the </a:t>
            </a:r>
            <a:r>
              <a:rPr b="1" lang="es-ES" sz="1800" spc="-1" strike="noStrike">
                <a:solidFill>
                  <a:srgbClr val="d60093"/>
                </a:solidFill>
                <a:latin typeface="Verdana"/>
              </a:rPr>
              <a:t>Services Broker has been removed</a:t>
            </a: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 from this version of the WSTK. The toolkit now inlcudes a fully functioni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g</a:t>
            </a:r>
            <a:r>
              <a:rPr b="1" lang="es-ES" sz="1800" spc="-1" strike="noStrike">
                <a:solidFill>
                  <a:srgbClr val="333333"/>
                </a:solidFill>
                <a:latin typeface="Verdana"/>
              </a:rPr>
              <a:t>n client API that can be used directly access a UDDI registry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992920"/>
            <a:ext cx="9144000" cy="707760"/>
          </a:xfrm>
          <a:prstGeom prst="rect">
            <a:avLst/>
          </a:prstGeom>
          <a:solidFill>
            <a:srgbClr val="57896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alphaworks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ibm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com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aw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nsf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13"/>
              </a:rPr>
              <a:t>techmain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14"/>
              </a:rPr>
              <a:t>/6E5433AD1F48242788256927007CA928?</a:t>
            </a:r>
            <a:r>
              <a:rPr b="0" lang="es-ES" sz="1600" spc="-1" strike="noStrike" u="sng">
                <a:solidFill>
                  <a:srgbClr val="bdd7e5"/>
                </a:solidFill>
                <a:uFillTx/>
                <a:latin typeface="Times New Roman"/>
                <a:hlinkClick r:id="rId15"/>
              </a:rPr>
              <a:t>OpenDocument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00000" y="2382840"/>
            <a:ext cx="680076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6" name="AUT15" descr=""/>
          <p:cNvPicPr/>
          <p:nvPr/>
        </p:nvPicPr>
        <p:blipFill>
          <a:blip r:embed="rId2"/>
          <a:stretch/>
        </p:blipFill>
        <p:spPr>
          <a:xfrm>
            <a:off x="1143000" y="760320"/>
            <a:ext cx="7534440" cy="5518080"/>
          </a:xfrm>
          <a:prstGeom prst="rect">
            <a:avLst/>
          </a:prstGeom>
          <a:ln w="0">
            <a:noFill/>
          </a:ln>
        </p:spPr>
      </p:pic>
      <p:pic>
        <p:nvPicPr>
          <p:cNvPr id="147" name="AUT10a" descr=""/>
          <p:cNvPicPr/>
          <p:nvPr/>
        </p:nvPicPr>
        <p:blipFill>
          <a:blip r:embed="rId3"/>
          <a:stretch/>
        </p:blipFill>
        <p:spPr>
          <a:xfrm>
            <a:off x="1143000" y="682560"/>
            <a:ext cx="7400880" cy="5554800"/>
          </a:xfrm>
          <a:prstGeom prst="rect">
            <a:avLst/>
          </a:prstGeom>
          <a:ln w="0">
            <a:noFill/>
          </a:ln>
        </p:spPr>
      </p:pic>
      <p:pic>
        <p:nvPicPr>
          <p:cNvPr id="148" name="AUT07" descr=""/>
          <p:cNvPicPr/>
          <p:nvPr/>
        </p:nvPicPr>
        <p:blipFill>
          <a:blip r:embed="rId4"/>
          <a:stretch/>
        </p:blipFill>
        <p:spPr>
          <a:xfrm>
            <a:off x="1143000" y="696960"/>
            <a:ext cx="7400880" cy="5530680"/>
          </a:xfrm>
          <a:prstGeom prst="rect">
            <a:avLst/>
          </a:prstGeom>
          <a:ln w="0">
            <a:noFill/>
          </a:ln>
        </p:spPr>
      </p:pic>
      <p:pic>
        <p:nvPicPr>
          <p:cNvPr id="149" name="AUT04a" descr=""/>
          <p:cNvPicPr/>
          <p:nvPr/>
        </p:nvPicPr>
        <p:blipFill>
          <a:blip r:embed="rId5"/>
          <a:stretch/>
        </p:blipFill>
        <p:spPr>
          <a:xfrm>
            <a:off x="1219320" y="685800"/>
            <a:ext cx="7400880" cy="5543640"/>
          </a:xfrm>
          <a:prstGeom prst="rect">
            <a:avLst/>
          </a:prstGeom>
          <a:ln w="0">
            <a:noFill/>
          </a:ln>
        </p:spPr>
      </p:pic>
      <p:pic>
        <p:nvPicPr>
          <p:cNvPr id="150" name="AUT02" descr=""/>
          <p:cNvPicPr/>
          <p:nvPr/>
        </p:nvPicPr>
        <p:blipFill>
          <a:blip r:embed="rId6"/>
          <a:stretch/>
        </p:blipFill>
        <p:spPr>
          <a:xfrm>
            <a:off x="11430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09680" y="4572000"/>
            <a:ext cx="54007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ng. Herman E. Dolder</a:t>
            </a:r>
            <a:br>
              <a:rPr sz="2800"/>
            </a:b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www.hdolder.c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iexplode" descr=""/>
          <p:cNvPicPr/>
          <p:nvPr/>
        </p:nvPicPr>
        <p:blipFill>
          <a:blip r:embed="rId7"/>
          <a:stretch/>
        </p:blipFill>
        <p:spPr>
          <a:xfrm>
            <a:off x="4343400" y="300024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962520"/>
            <a:ext cx="8610480" cy="1143000"/>
          </a:xfrm>
          <a:prstGeom prst="rect">
            <a:avLst/>
          </a:prstGeom>
          <a:solidFill>
            <a:srgbClr val="5789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f8f6"/>
                </a:solidFill>
                <a:latin typeface="Times New Roman"/>
              </a:rPr>
              <a:t>hdolder.com srl</a:t>
            </a:r>
            <a:br>
              <a:rPr sz="3200"/>
            </a:br>
            <a:r>
              <a:rPr b="0" lang="en-US" sz="3600" spc="-1" strike="noStrike">
                <a:solidFill>
                  <a:srgbClr val="f6f8f6"/>
                </a:solidFill>
                <a:latin typeface="Times New Roman"/>
              </a:rPr>
              <a:t>Software y Servicios de Estrategia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4" name="iEBFHA" descr=""/>
          <p:cNvPicPr/>
          <p:nvPr/>
        </p:nvPicPr>
        <p:blipFill>
          <a:blip r:embed="rId2"/>
          <a:stretch/>
        </p:blipFill>
        <p:spPr>
          <a:xfrm>
            <a:off x="2362320" y="550800"/>
            <a:ext cx="4190760" cy="3030480"/>
          </a:xfrm>
          <a:prstGeom prst="rect">
            <a:avLst/>
          </a:prstGeom>
          <a:ln w="0">
            <a:noFill/>
          </a:ln>
        </p:spPr>
      </p:pic>
      <p:pic>
        <p:nvPicPr>
          <p:cNvPr id="155" name="HCOM01" descr=""/>
          <p:cNvPicPr/>
          <p:nvPr/>
        </p:nvPicPr>
        <p:blipFill>
          <a:blip r:embed="rId3"/>
          <a:stretch/>
        </p:blipFill>
        <p:spPr>
          <a:xfrm>
            <a:off x="3081240" y="5486400"/>
            <a:ext cx="2979720" cy="795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Mi propuesta es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3123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prendamos del Cosmos !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4c2b"/>
                </a:solidFill>
                <a:latin typeface="Times New Roman"/>
              </a:rPr>
              <a:t>Los 'Campos' en la Física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Gravitator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Electromagnéti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Interacciones atómicas débi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Interacciones atómicas fuert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Subcamp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Otros en etapa de descubrimiento y  por descubrirse 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4c2b"/>
                </a:solidFill>
                <a:latin typeface="Times New Roman"/>
              </a:rPr>
              <a:t>Porqué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orqué existe un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velocidad máxima para la propagación d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erturbaciones en los campos (v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locidad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de la luz) ?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orq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é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existe una temperatura 0 absoluta ?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orq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é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la velocidad de la luz aparece en la ecuación d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instein ?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orq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é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la velocidad de la luz es 300.000 km/seg y no otra ?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4c2b"/>
                </a:solidFill>
                <a:latin typeface="Times New Roman"/>
              </a:rPr>
              <a:t>Los campos act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ú</a:t>
            </a:r>
            <a:r>
              <a:rPr b="0" lang="es-ES" sz="3600" spc="-1" strike="noStrike">
                <a:solidFill>
                  <a:srgbClr val="004c2b"/>
                </a:solidFill>
                <a:latin typeface="Times New Roman"/>
              </a:rPr>
              <a:t>an como organizador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Los 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campos reconocidos no explica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como los sistemas se pueden autoorganiza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orqué la energía se condensa en materia ?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Cómo se vence el principio de Entropí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para autoorganizar organismos vivientes d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altísima complejidad capaces de conten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inteligencia, manejar información y dirigi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flujos de Energía ?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Atractor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004c2b"/>
                </a:solidFill>
                <a:latin typeface="Times New Roman"/>
              </a:rPr>
              <a:t>tractores en Psicologí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Impulsor) Dolor  ---&gt; Placer (Atract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A. Maslow </a:t>
            </a:r>
            <a:br>
              <a:rPr sz="2400"/>
            </a:b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Jerarquía de Satisfacción de Necesidades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Supervivenci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-&gt;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Place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--&gt; Trascendencia (Atractor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Times New Roman"/>
              </a:rPr>
              <a:t>Trascendencia:    B-values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333333"/>
                </a:solidFill>
                <a:latin typeface="Times New Roman"/>
              </a:rPr>
              <a:t> ---&gt;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333333"/>
                </a:solidFill>
                <a:latin typeface="Times New Roman"/>
              </a:rPr>
              <a:t> Placer espiritua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pen Source 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5715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Lo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racta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G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en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é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Lo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istema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utoorganizado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Procesamiento distribuido en e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osm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Component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Web Servic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Open Source 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Lo que vendrá !?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4c2b"/>
                </a:solidFill>
                <a:latin typeface="Times New Roman"/>
              </a:rPr>
              <a:t>Fracta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9" name="_F_aztec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44197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Conjuntos de Mandelbrot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Estructuras (visuales) recursivas generadas con una expresión matemática muy simple que involucra n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ú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meros complejo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8T15:59:23Z</dcterms:created>
  <dc:creator>Herman E. Dolder</dc:creator>
  <dc:description/>
  <dc:language>en-US</dc:language>
  <cp:lastModifiedBy>Herman E. Dolder</cp:lastModifiedBy>
  <dcterms:modified xsi:type="dcterms:W3CDTF">2001-06-28T19:49:38Z</dcterms:modified>
  <cp:revision>62</cp:revision>
  <dc:subject/>
  <dc:title>Proyecto CAST Computer Assisted Strategic Thinking</dc:title>
</cp:coreProperties>
</file>