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0F31-2967-4304-B6C8-050B60C7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532-BA47-4D5F-9437-FAB4C07E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E24-56F3-426A-A735-C66B6D240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4FA-56BC-489C-BAF4-63D495464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45B0-7D5D-436C-9B7B-F78B6691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6CA0-078B-40AF-8FB0-F9B948AF3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73B5-5D98-482B-B2BD-29CDDC54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DC361-A1F0-4AEB-A0D9-E539C8D2C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29BB-3B05-41AA-9783-4FAC721E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98BD-17B3-4473-BE4D-A9EB4453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5F12-75AE-4E32-84C2-3D1D13CF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EFA-E592-4D0A-AF68-F2BDDB00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FF6A-7C3E-4C2E-B8A8-1C7B6FA5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F175-AA45-41F7-8F52-4E547B764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BC97A-056D-4ECC-ADE0-0B8D0B44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0306-B179-4D6D-BAB6-59ABE6B9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634B-9C95-44B7-A2BC-4E142304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B2FF-5DB8-4B62-B036-657FE553A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1C32-D8EF-46A9-9191-CD111887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DF9B-EC8A-4102-9780-810D7670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ADB-1364-4160-92B3-A7FB84EC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AEA3-ED83-4CFD-A40D-FF3E9FC3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935D-9DB4-49DD-8CDD-72D3342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3414-D2A7-45B5-89F1-2EF9F4CE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0A443-AC50-4F00-B872-7251EA0FFD8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AB9FD-DD52-4C29-9CDB-01A1EACE8313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Parte IV - Tema D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en GNU/Linux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86200" y="2895480"/>
            <a:ext cx="3294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Otras herramientas de auditoria.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0048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puer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NMAP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F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canner de CGI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GISca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Whiske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Riva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atapool (Do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SAINT, Messala, RvScan, Sara, landguard  (A.V.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4221000"/>
            <a:ext cx="19620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con GNU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troducción a una audi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ESSU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tras herramient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neg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Vulnerabilida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fund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uditoria de DoS y otras incidenci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Caja blanc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análisis y requisi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Otros: Calidad, confidencialidad, etc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Otras: Fisicas, social, basura, etc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Auditoría de seguridad 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udi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Hacking etico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Método vs Conocimient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tro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Destro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, cut and pas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lick &amp; Fo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¿Qué 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Demoni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nsol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lugins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litic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72120" y="1476360"/>
            <a:ext cx="397188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II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canning/NMA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867280" y="2565360"/>
            <a:ext cx="297180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I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lic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00720" y="2625840"/>
            <a:ext cx="464328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Nessus 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1" lang="es-ES" sz="4400" spc="-1" strike="noStrike">
                <a:solidFill>
                  <a:srgbClr val="ffffcc"/>
                </a:solidFill>
                <a:latin typeface="Arial Narrow"/>
              </a:rPr>
              <a:t>V</a:t>
            </a:r>
            <a:endParaRPr b="1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771640" y="1773360"/>
            <a:ext cx="3913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d go…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48160" y="2834280"/>
            <a:ext cx="162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            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4437000"/>
            <a:ext cx="2296800" cy="2222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54356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8:55:43Z</dcterms:created>
  <dc:creator>slerena</dc:creator>
  <dc:description/>
  <dc:language>en-US</dc:language>
  <cp:lastModifiedBy>TBBBG</cp:lastModifiedBy>
  <dcterms:modified xsi:type="dcterms:W3CDTF">2002-03-16T03:32:26Z</dcterms:modified>
  <cp:revision>36</cp:revision>
  <dc:subject/>
  <dc:title>Políticas de Seguridad en entornos GNU</dc:title>
</cp:coreProperties>
</file>